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D8E2-84C0-4334-B1CD-63DFFA7A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B271-FB54-4A77-AC7E-A7B19691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33D9-2986-4FA5-A237-AF092640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DA7B-9B08-4D86-BC02-517C02CB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CCDB-D18F-4BFF-97ED-6ADACF66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A881-79EE-4D6C-8546-BBE4A4A4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1EC2-4F6A-4142-AD26-638B7142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DDF6-2382-4E47-903B-6D8F6234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8090-4CD9-43DC-90E1-DA9FCEA1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29B6-3B81-4D2A-A53E-CF1E1113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3D5F-C522-4C78-8634-1B86D9BC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3B7E-6A19-4257-84B2-E03DDB89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0F09-3D54-4A66-B93B-620C0BF6C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hyper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990720" y="609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hyper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hyper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hyperlink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20:36:21Z</dcterms:created>
  <dc:creator>KU KU</dc:creator>
  <dc:description/>
  <dc:language>en-US</dc:language>
  <cp:lastModifiedBy>KU KU</cp:lastModifiedBy>
  <dcterms:modified xsi:type="dcterms:W3CDTF">2008-06-04T20:40:54Z</dcterms:modified>
  <cp:revision>1</cp:revision>
  <dc:subject/>
  <dc:title>This is a hyperlink</dc:title>
</cp:coreProperties>
</file>